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67F-248C-4785-9649-C3DE9D4B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085-DD14-44E9-9A2D-6BA6B77C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8AE-41B3-4BF6-848C-62176D5F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6D6-C358-4F07-BD7A-098D8A3C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00F5-9811-4D22-B2F4-634B87C3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0464-99C7-4909-9AE6-C58DF187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FF3A-2462-4DF3-B987-0E8B312B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2980-CAA2-450B-A0C4-E563B0AF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1AED-0532-4B7D-8592-8AEB8EDD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5656-E3A9-467D-9A8F-9CDF705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DEB-6273-44C0-9DC2-1581AF36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654-8C32-4850-B6C4-E49CAFD5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9713-0046-491B-91A9-5CF967BC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915A-8F8D-4B6E-ACD3-935936B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8B7D-2A03-4742-AEA2-C64AC733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24E-D8D8-46CE-BC3A-161678A1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8D19-B8B5-435D-8FEC-99A28FCA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2DCA-7AAE-43DC-A37D-C0307E20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AA85-294B-4957-AEF3-290FAA83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16B2-3610-4282-AEA9-E027896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F352-49C8-4E10-AF7C-A26F0B20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F939-12B5-4512-A3D3-C50F431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6D0-212A-45FF-80F1-261BC6F7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C967-5159-4949-9FC5-5FC3743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C054-9E0E-4908-A90E-BE95C183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E9A04-91A7-42CB-9CB8-E95CC233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98EB-3886-47DA-9E62-F184B70A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68F79-F792-46D8-8144-B9F9CD5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FC92-CF33-4098-AEA0-0636A69B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3D64-A859-41CA-9C5A-11D87F1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AF27E-536B-4507-A63B-DBB19EC8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57B0-EBCB-478E-BACC-64F1D291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C233-34A8-492F-9DFB-BCFC1505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1A2-61B4-4DD3-8ECF-B346853B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A84B-762C-41F0-B07C-C09474D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B804-BAA4-47D0-835D-824331E8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AC08-7C8C-4DF1-B2E0-7854D412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54C9-0FF0-4EB7-8E74-3221607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878F-21D9-404C-9FE8-CF8B012D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EDD7-42F8-4A4F-BA2F-120BE69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38FCF-D2D8-451E-BB95-5DB1E801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4039-EF35-43FE-AC81-5BD5572D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E786-9866-4FE3-9616-F833F5F2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53A-5618-4FF1-897B-FF0C60BC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121-B2B8-45B4-8A85-86B87999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5F2-3D8B-4CF7-B0BB-3660153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EBF-3AC7-4ED3-9AE0-A661B6CF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36E-29E8-475C-9AF3-6D87192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8FB3-BAA5-4F91-8B07-95C0F3F14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EE61-945C-4276-A49E-5DDB1B5B0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44B9-B96C-4CF2-A059-2330522B5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a9cf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5D69-71F2-4A65-9AF3-8F23D5FBE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4824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Клод М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D:\Мои документы\Сема\Клод Моне\Клод_Моне.jpg"/>
          <p:cNvPicPr/>
          <p:nvPr/>
        </p:nvPicPr>
        <p:blipFill>
          <a:blip r:embed="rId1"/>
          <a:stretch/>
        </p:blipFill>
        <p:spPr>
          <a:xfrm>
            <a:off x="5688000" y="457200"/>
            <a:ext cx="2925720" cy="8101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1692360" y="2205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40-19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:\Мои документы\Сема\Клод Моне\glrx-1273721921.JPG"/>
          <p:cNvPicPr/>
          <p:nvPr/>
        </p:nvPicPr>
        <p:blipFill>
          <a:blip r:embed="rId1"/>
          <a:stretch/>
        </p:blipFill>
        <p:spPr>
          <a:xfrm>
            <a:off x="1403280" y="260280"/>
            <a:ext cx="6264360" cy="5577120"/>
          </a:xfrm>
          <a:prstGeom prst="rect">
            <a:avLst/>
          </a:prstGeom>
          <a:ln w="19080">
            <a:solidFill>
              <a:srgbClr val="cc6600"/>
            </a:solidFill>
            <a:miter/>
          </a:ln>
        </p:spPr>
      </p:pic>
      <p:sp>
        <p:nvSpPr>
          <p:cNvPr id="170" name="TextBox 4"/>
          <p:cNvSpPr/>
          <p:nvPr/>
        </p:nvSpPr>
        <p:spPr>
          <a:xfrm>
            <a:off x="4788000" y="59500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ндон. Парламент. 190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9:18Z</dcterms:created>
  <dc:creator/>
  <dc:description/>
  <dc:language>en-US</dc:language>
  <cp:lastModifiedBy/>
  <dcterms:modified xsi:type="dcterms:W3CDTF">2016-11-30T18:40:40Z</dcterms:modified>
  <cp:revision>20</cp:revision>
  <dc:subject/>
  <dc:title>Слайд 1</dc:title>
</cp:coreProperties>
</file>